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04A4-94DE-4364-BAE7-6D4F8CEB8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22FF-1C74-4E32-8A61-706376CADA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39C-C831-453D-90B0-CE973B5005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4F65-AEAE-42E0-95F3-CBDF02DE1A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The following website contains good information on obtaining domain names for your refer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hesitewizard.com/archive/registerdomai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BD84-158E-45C0-A114-F885BCA1E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297E-7BBB-4D81-9901-84901763DD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1099-96BB-431A-8BB8-6D4864A005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1955-0AAC-46BB-8148-77D8AF16A3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539E-708F-402D-9FC2-58C4AAF81E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5586-74F2-4B92-9429-E5F440C79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You may want to point out to students that web servers maintain a constant connection to the Internet. Pages are requested by viewers when they click on hyper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5530-977E-4061-819F-FFB263D148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Assigned domain names provided by web hosting service are difficult for users to remember if name is unrelated to site purpose and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4626-975D-4371-9D6D-3521D80033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E9E-72A2-479B-AEA2-B622D0C6A1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3114-AE24-4E71-B86A-386565AA0A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078-338D-4925-A49A-7A0C0380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43556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91F-5806-48C4-9D59-225BEA72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1CA-5194-4988-BA9D-44C1BB37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72F-DCA7-41AA-B210-C699CD8C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8B70-66E2-49E5-B0E9-AB143890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2396-DEBA-4C77-8619-7FD1D3F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365D-672C-43B5-A705-FC0BF061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4810-5271-4DFB-9201-B205A525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7C7D-565A-4639-BD0D-0E79EF10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F7E2-9E55-4A54-86F8-1DCD6DFF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419E-4C18-4774-87BB-6398489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E45-1EA3-4B96-8DF7-5F84A5A5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EFEF-4EE9-491F-BE43-F62D591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F380-5C70-429D-9A77-B55A36A3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43556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B48B-F291-4198-9CDC-984B0636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C02D-0E9C-48D5-A6DF-6373757D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8A82-EA5F-458D-87B6-EC518C72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0BB-1027-47C4-8BCA-24966F98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917-7584-4E29-BDE8-3ED847A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50D-7DB1-4C04-84B4-50F9C966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78F-5070-41EF-8653-3BFC5FB6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145-B891-471C-A7EC-31241D6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817-B4BB-47DE-975D-FEC7054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B40-9199-46DB-80EE-8DBDF576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B668-D6C0-4BCA-BEF8-F8CF6C64A8C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77AC-EC90-4311-B297-CBD6F96CDEF8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cann.org/tr/english.html" TargetMode="External"/><Relationship Id="rId2" Type="http://schemas.openxmlformats.org/officeDocument/2006/relationships/hyperlink" Target="http://www.internic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alidator.w3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225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.02H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ublishing a Websi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89120" y="4843440"/>
            <a:ext cx="768816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3.02 Develop webpage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95080" y="917280"/>
            <a:ext cx="7118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Comparing Web Hosts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02840" y="1992240"/>
            <a:ext cx="66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Does the host allow a maximum number of “hits” per billing cycle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hat is the fee for exceeding the traffic allowance if the site becomes popular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le transfer technology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(ftp, webDAV, editor compatibility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hosts do not support some web editors and may require the use of their ftp program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1480" y="990720"/>
            <a:ext cx="68022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btain a Domain Nam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93560" y="1914120"/>
            <a:ext cx="666756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Domain names can be registered for a fixed period of time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usually 1 year but no more than 10 years)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CANN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(Internet Corporation for Assigned Names and Numbers) maintains a list of accredited registrar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strars are the only companies allowed to assign domain name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stration cost vary but are generally between $10 and $35 although some web hosts will register the domain for fre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CANN manage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InterNIC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, a searchable list of URL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Has a WhoIs feature that provides information regarding the registered owner and the registrar that assigned the domain nam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6200" y="1092240"/>
            <a:ext cx="30132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ublish!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4120" y="1861920"/>
            <a:ext cx="7358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Upload files to a web host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232560" indent="-23256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Know protocol being used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lvl="1" marL="628560" indent="-28296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TP—File Transfer Protoco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967680" indent="-2260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Non-secure transfer that doesn’t encrypt access password or allow data encryption during transfer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628560" indent="-28296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WebDAV-Web Distributed Authoring and Versionin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967680" indent="-2260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Secure file transfer that uses Web Folders to encrypt password and data during transfer; useful when using multiple authors to create sit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232560" indent="-23256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Does the host require an external uploading application? 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232560" indent="-23256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Does the host accept internal uploading utilities from web editing programs like Microsoft Expression Web or Dreamweaver?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480" y="1012320"/>
            <a:ext cx="258444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ublish!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45680" y="1966680"/>
            <a:ext cx="66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Tahoma"/>
              </a:rPr>
              <a:t>Site too large?</a:t>
            </a:r>
            <a:endParaRPr b="0" lang="en-US" sz="26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duce number and/or size of multimedia file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duce number and/or size of image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dit pages and remove links to files that no longer exist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move unnecessary files from host server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Pay for additional storage space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94000" y="837720"/>
            <a:ext cx="68119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efore Publishing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85800" y="1784520"/>
            <a:ext cx="705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heck spelling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Spelling errors can turn visitors away from site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Use web editor’s spell checking utility or copy text to a word processor to check for spelling errors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heck relative and absolute links to make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re they work properly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Common link errors: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Forward slash in relative link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http:// before a relative link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Mistyping a web address using wrong case or mistaking a _ for a blank spac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1520" y="923400"/>
            <a:ext cx="67975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efore Publishing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58640" y="2297160"/>
            <a:ext cx="73292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Check site in multiple browse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heck site in Internet Explorer, Opera, Firefox, etc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Notice differences and adjust as necessary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9760" y="863280"/>
            <a:ext cx="76755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efore Publishing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8640" y="1976400"/>
            <a:ext cx="73515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alidate source code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Validating checks for errors in HTML code such as: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Tags spelled incorrectly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Tags left open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Validating does not find spelling errors in text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ome validators correct errors while others just highlight the error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any web editors contain internal validating utilitie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r sites created in a text editor, validating is available online and via free download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xample: 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validator.w3.org/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3600" y="820440"/>
            <a:ext cx="67723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hoose a Web Hos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5040" y="196524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A web host is also called a web server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A computer that stores web page files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Sends webpages to viewers over the Internet upon request. 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Types: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Fre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Shared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Dedicated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ISP is most common web host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Usually package Internet access, email, and limited web site storage for its customers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Can be a solution for personal or small business us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1424160" y="1846440"/>
            <a:ext cx="6949800" cy="4813200"/>
          </a:xfrm>
          <a:prstGeom prst="rect">
            <a:avLst/>
          </a:prstGeom>
          <a:solidFill>
            <a:srgbClr val="00cc99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02880" y="782640"/>
            <a:ext cx="52578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ree Web Host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04040" y="638280"/>
            <a:ext cx="237168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Tahoma"/>
              </a:rPr>
              <a:t>Good for family, hobby or personal sites with low traffic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66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531440" y="1954080"/>
            <a:ext cx="6751800" cy="4548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Advantages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No cos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ay include free email accoun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ay include online web editor with GUI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0" algn="ctr"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Disadvantages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No personalized domain names; usually combines the free site’s URL with the path to specific sit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imited storage spac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imited technical support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pop-up advertising in exchange for hosting sit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407960" y="1762200"/>
            <a:ext cx="6953400" cy="4770360"/>
          </a:xfrm>
          <a:prstGeom prst="rect">
            <a:avLst/>
          </a:prstGeom>
          <a:solidFill>
            <a:srgbClr val="00cc99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88960" y="868320"/>
            <a:ext cx="64468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hared Web Hos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87920" y="620640"/>
            <a:ext cx="226044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Tahoma"/>
              </a:rPr>
              <a:t>Good for small businesses websites with average traffic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617480" y="1822320"/>
            <a:ext cx="66531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Low cost because it is shared with others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Own domain name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Better technical support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Restrictions on traffic volume (more traffic costs more money!)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Offers many options such as email, database support and multiple web editor compatibility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1433520" y="1895400"/>
            <a:ext cx="6918480" cy="4516560"/>
          </a:xfrm>
          <a:prstGeom prst="rect">
            <a:avLst/>
          </a:prstGeom>
          <a:solidFill>
            <a:srgbClr val="00cc99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360" y="939600"/>
            <a:ext cx="508464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edicated Web Hos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66040" y="495360"/>
            <a:ext cx="2350800" cy="11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Tahoma"/>
              </a:rPr>
              <a:t>Good for large businesses with high traffic and multiple domain names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3360" y="2054160"/>
            <a:ext cx="683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ebsite is hosted on its own server—not shared with other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Very powerful—can accommodate any kind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f software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Very expensive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quires high-level computer skill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5560" y="726840"/>
            <a:ext cx="53625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mparing Web Hos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43080" y="1760040"/>
            <a:ext cx="7493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hat can the customer afford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orage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ow much storage space can the customer afford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hat size is the site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heck the cumulative size of the root folder if no web editor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re backup servers in place to host site when main server is offline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1:29:09Z</dcterms:created>
  <dc:creator>Lee O'Neal</dc:creator>
  <dc:description/>
  <dc:language>en-US</dc:language>
  <cp:lastModifiedBy>ycsadmin</cp:lastModifiedBy>
  <dcterms:modified xsi:type="dcterms:W3CDTF">2011-06-25T00:26:25Z</dcterms:modified>
  <cp:revision>62</cp:revision>
  <dc:subject/>
  <dc:title>Web Site Development  Competency 8 Create a multimedia web site.</dc:title>
</cp:coreProperties>
</file>